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0150118"/>
        <c:axId val="61737666"/>
      </c:barChart>
      <c:catAx>
        <c:axId val="8015011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737666"/>
        <c:crosses val="autoZero"/>
        <c:auto val="1"/>
        <c:lblAlgn val="ctr"/>
        <c:lblOffset val="100"/>
        <c:noMultiLvlLbl val="0"/>
      </c:catAx>
      <c:valAx>
        <c:axId val="6173766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15011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F9212-7091-46E3-B469-AF94F9752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F6B19-5A22-4D8F-ABDB-E72A64B73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EF7A6-1AA0-438E-A4C3-AE4039F88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AB581-A6E5-4ACE-A887-39E8A3BCB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AD859-9745-42DB-85EE-FBFD4B533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1DAB7-0A79-45ED-A9BA-A0ADEEE47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87A05-05A1-4ACA-AE5E-5B960CEB4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B1C71-18D0-4A3E-BD9A-709EFEDD6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1BE5D-BF95-4959-924C-12C933348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4B22F-D2DB-414D-B78B-9A69CC499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1F6F0-A408-4D2F-8B75-39E5E4FB7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DCF50-F007-4853-9697-1C69D732F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0BF5A0-CDFC-487B-85BC-0E6AC44ECD7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