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67816"/>
        <c:axId val="90540602"/>
      </c:barChart>
      <c:catAx>
        <c:axId val="94767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40602"/>
        <c:crosses val="autoZero"/>
        <c:auto val="1"/>
        <c:lblAlgn val="ctr"/>
        <c:lblOffset val="100"/>
        <c:noMultiLvlLbl val="0"/>
      </c:catAx>
      <c:valAx>
        <c:axId val="90540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7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619-B6A3-437F-B92F-0ADF973C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E11-4596-42D0-A600-8EACAC93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C20-2EFD-48E4-B8B0-DD0C1F3A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370-0A32-4494-90F8-37658B48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DFC-F4EA-487B-95B1-CACECDA6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CB2-2603-47A3-BBBA-8DB413B5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DBD-D99F-4498-89A8-3F3117B5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CAA-EAF4-49F2-BF20-C23C834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F28-B686-425D-A511-2B2E87CD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A52-CDF1-408A-9BDB-44546778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E92-95DF-4A1A-BB3E-87B08D2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4B0-98DD-4CFD-8420-8D14D2CE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35E60-FF87-4FAB-BC78-47B8CE1C6B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