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30609"/>
        <c:axId val="2546087"/>
      </c:barChart>
      <c:catAx>
        <c:axId val="94730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087"/>
        <c:crosses val="autoZero"/>
        <c:auto val="1"/>
        <c:lblAlgn val="ctr"/>
        <c:lblOffset val="100"/>
        <c:noMultiLvlLbl val="0"/>
      </c:catAx>
      <c:valAx>
        <c:axId val="2546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30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95D-5218-4B9E-BAB6-145C509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457-30DD-4B51-BE0E-4BA0156D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59D-224C-4C4C-BAB7-F61C3E0A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FE7-4B6C-4E01-B2DA-0BBC3EBB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D01-B043-4815-8A45-76132007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634-5981-4F01-B977-85395B8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23F-A783-4363-917B-812BB5E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163-608C-41EF-A16F-DF19726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C73-D009-40F8-A313-9F6E0094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C45-1500-4309-BE4D-15D4254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7C7-587D-406A-BC31-80E8C4E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07F-CEBE-4E8D-8BB1-CBB11BF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5F40B-D29E-4BFB-B5F5-6E29A50AB0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