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32675"/>
        <c:axId val="68588268"/>
      </c:barChart>
      <c:catAx>
        <c:axId val="25332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88268"/>
        <c:crosses val="autoZero"/>
        <c:auto val="1"/>
        <c:lblAlgn val="ctr"/>
        <c:lblOffset val="100"/>
        <c:noMultiLvlLbl val="0"/>
      </c:catAx>
      <c:valAx>
        <c:axId val="68588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32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3A4-E75D-46E0-9B36-677787C7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03B-123F-48D8-BCD5-B55F0324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A5D-0765-4A2B-81C0-D75F95E9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1BB-0AFC-4B6A-AAF2-095300AC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7A5-B8F3-4D30-A654-DED18A20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206-E690-49FA-B475-D8DE5B98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8BE-7E93-4B26-8C4B-209F48C6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C38D-02EB-4C0F-B6E1-A2191CF5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8A9-BD3F-4656-9AAB-A86EAFFB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749-8480-442A-9637-CB209BB8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075-92D8-40C2-B05F-749D4E6D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060-5750-4E5F-AF11-1C7BB6C3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12B0A-22D0-467C-9434-F391944391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