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03721"/>
        <c:axId val="68551052"/>
      </c:barChart>
      <c:catAx>
        <c:axId val="19103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51052"/>
        <c:crosses val="autoZero"/>
        <c:auto val="1"/>
        <c:lblAlgn val="ctr"/>
        <c:lblOffset val="100"/>
        <c:noMultiLvlLbl val="0"/>
      </c:catAx>
      <c:valAx>
        <c:axId val="68551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03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BC8-691C-43AE-A410-730F3397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81F-6186-4623-A837-E34B2BCC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71C-B61A-4C30-90D3-93C05FBD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20E-31DB-4316-87CE-C45D47C0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BA6-584D-4580-BCE7-EABA5B62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EE1-C006-462C-AFA6-B868B3D5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96E-1F9C-460D-BB50-7350BECA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6E5-3ADF-4930-8EFC-1D0EEDD8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FA9-AD55-4895-B64F-F0771EEE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78B-98E0-4313-82EB-8354869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C37-0ACB-42F7-9446-10AC106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7E0-43F9-4041-90E2-510A24F2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E32D-9E46-4E40-9977-8C1B14638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