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90839"/>
        <c:axId val="27913513"/>
      </c:barChart>
      <c:catAx>
        <c:axId val="14290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13513"/>
        <c:crosses val="autoZero"/>
        <c:auto val="1"/>
        <c:lblAlgn val="ctr"/>
        <c:lblOffset val="100"/>
        <c:noMultiLvlLbl val="0"/>
      </c:catAx>
      <c:valAx>
        <c:axId val="27913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90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634-454A-414D-B790-24D9F351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927-D75F-489F-B598-D549D2D8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B0A-6789-4F13-A7A2-E8B56646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7A7-F041-439D-BE56-DC54B5FE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D65-43FF-495D-86FF-28AE596E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3AA-E0F9-4B1C-BC50-4090C3FD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CA9-64AA-4572-BACD-076E6581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0E0-6AF1-4AF5-AB36-0F22671C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442-029B-4AB9-B1B2-9D412ECA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300-F9D3-433E-A84E-FD0B809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5B9-9158-4FC4-B1D0-53AF0420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353-612B-4B01-AE5F-FF3C10F6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54329-0F11-4B7D-9F4A-76BEEC0892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