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77285"/>
        <c:axId val="48144050"/>
      </c:barChart>
      <c:catAx>
        <c:axId val="69977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4050"/>
        <c:crosses val="autoZero"/>
        <c:auto val="1"/>
        <c:lblAlgn val="ctr"/>
        <c:lblOffset val="100"/>
        <c:noMultiLvlLbl val="0"/>
      </c:catAx>
      <c:valAx>
        <c:axId val="48144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77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A60-EBC9-47F3-ABFC-6F5FD815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FD8-EEF5-4DB2-81B0-4C394AC5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E8C-4C2A-4C9E-A5EF-DDA3F574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004-C35E-4753-BD51-1E2359F8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EC4-3D74-41D0-8D7B-0C76D55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345-F523-4779-9A75-0AFF059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753-335B-4AC3-85DF-BF6C1C99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61B-C0B2-4D6B-BAC7-9CC76C5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5FC-F4D7-4390-996E-9CA70C0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791-42BA-4A7E-B348-BE05CB5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6B5-F0B6-4532-8F10-1A177734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977-E6B1-4CCB-BF0C-C725439F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0EE7A-79C4-4C34-8A9E-413CA8727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