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80231"/>
        <c:axId val="56042904"/>
      </c:barChart>
      <c:catAx>
        <c:axId val="74980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42904"/>
        <c:crosses val="autoZero"/>
        <c:auto val="1"/>
        <c:lblAlgn val="ctr"/>
        <c:lblOffset val="100"/>
        <c:noMultiLvlLbl val="0"/>
      </c:catAx>
      <c:valAx>
        <c:axId val="56042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80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902-34ED-45AA-BADA-D457F4A9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BF2-F9B4-4A1B-B24D-64EA8C5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7A7-30BF-4FF1-8F73-A93E9CE5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CCA-D59D-4A92-8F43-15B88BFB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F74-094E-41D7-97A5-13B78DC3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7CF-FACE-4DAE-B740-3711C278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636-AB17-4990-B0B1-94857881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0AA-5387-4C54-ADF2-7F481992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127-94E1-4654-812E-F17F4E3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1A1-08FA-4F51-BCB9-60810DC0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9D0-5AD4-4A57-ACE1-D69D3F6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6AF-280F-410E-84FC-589DDE2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2001B-0CCF-4462-BF8A-27E037AA51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