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622285"/>
        <c:axId val="97247028"/>
      </c:barChart>
      <c:catAx>
        <c:axId val="486222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47028"/>
        <c:crosses val="autoZero"/>
        <c:auto val="1"/>
        <c:lblAlgn val="ctr"/>
        <c:lblOffset val="100"/>
        <c:noMultiLvlLbl val="0"/>
      </c:catAx>
      <c:valAx>
        <c:axId val="972470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222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AE79-1690-446F-8686-CF246C37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583A-EDB4-4801-908E-DCFB0329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AA86-40F2-4D67-916F-9E1DCD61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8A11-7755-4C92-AA1D-F3146E09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8AA3-A05F-4F39-B215-864841C2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9438-A524-4822-B22D-9AEB4302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7908-5805-46A9-9B61-5CC70412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1F2D-6BCA-4B5E-B61D-8426D183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8EDF-FF61-40D3-BDA9-DCDDA1A9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388E-E1F2-4BAE-B2CC-A2FB007D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4670-0E12-4130-81DF-D850F52F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5BF7-6054-4039-B3F2-C5977D21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AB642-F21C-40C0-93FE-7CD9C6277D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