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5388"/>
        <c:axId val="24588781"/>
      </c:barChart>
      <c:catAx>
        <c:axId val="6445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88781"/>
        <c:crosses val="autoZero"/>
        <c:auto val="1"/>
        <c:lblAlgn val="ctr"/>
        <c:lblOffset val="100"/>
        <c:noMultiLvlLbl val="0"/>
      </c:catAx>
      <c:valAx>
        <c:axId val="24588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5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BF7-D4F5-4FD8-988D-CEA4BA7C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EF0-CEAB-431B-B088-49B9972F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2E4-27C6-4F73-9DCE-24F91D4A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3E4-64E4-4FAE-9FE7-00323BC3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A7F-C272-4BF6-971F-9381C225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762-CC70-4103-8418-B43B905F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B23-1B3E-4E37-A3E1-78688556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D51-9A9B-441B-B2C8-68D52C7B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E10-8523-4ECA-97CC-3A6B89F5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925-1600-4E07-88ED-B79FC41A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04B6-16CD-42FF-8CA5-25E638B4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E850-F6A1-443C-A9E0-EC526E10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512A8-41FB-4059-A968-3A3275E84B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