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61222"/>
        <c:axId val="7758101"/>
      </c:barChart>
      <c:catAx>
        <c:axId val="91961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8101"/>
        <c:crosses val="autoZero"/>
        <c:auto val="1"/>
        <c:lblAlgn val="ctr"/>
        <c:lblOffset val="100"/>
        <c:noMultiLvlLbl val="0"/>
      </c:catAx>
      <c:valAx>
        <c:axId val="7758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61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A1D-FC89-4512-BC19-5501D27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806-5267-4221-A519-341DCF0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170-9ACF-407B-B680-D3271AF4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276-354B-45EB-A20E-31A3F165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8ED-7F58-4316-89AA-7E5D701D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E61-24FC-4C72-8775-BEFD9D9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CB3-8BBE-4E01-8073-FE48E5B2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9F4-75D9-46CB-8660-902BAD5B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171-B124-45B4-934F-63D09521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D5B-BF15-4A89-98FB-5254048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214-24EC-4F07-8849-554DD1E1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C5C-73DB-4B96-BDE5-ABFD8E1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E6C3-B161-4C43-9432-26A96F4F4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