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74302"/>
        <c:axId val="50911642"/>
      </c:barChart>
      <c:catAx>
        <c:axId val="52974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11642"/>
        <c:crosses val="autoZero"/>
        <c:auto val="1"/>
        <c:lblAlgn val="ctr"/>
        <c:lblOffset val="100"/>
        <c:noMultiLvlLbl val="0"/>
      </c:catAx>
      <c:valAx>
        <c:axId val="50911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74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095-FFA6-4D66-98E6-1B319D5B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B0D-0F5E-4049-958C-5D976692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0F1-7065-4ADE-A6DB-591C0234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C29-9EE8-49A2-AB94-71AAF689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501-B41A-4406-A418-7492910E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E2A-3002-4B36-AA75-DE39CDD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A7D-75DC-4785-9773-3376995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E70-07AD-48F8-A932-A77A081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7BD-4EC2-4F32-BF09-A8E60D07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2DB-9C08-45EF-A4DC-2221447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762-26BB-49FD-9A88-B437853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3C4-09B4-4C97-9BC7-128B9C9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E7216-EF25-4939-8569-D10C943527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