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612466"/>
        <c:axId val="12836679"/>
      </c:barChart>
      <c:catAx>
        <c:axId val="936124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836679"/>
        <c:crosses val="autoZero"/>
        <c:auto val="1"/>
        <c:lblAlgn val="ctr"/>
        <c:lblOffset val="100"/>
        <c:noMultiLvlLbl val="0"/>
      </c:catAx>
      <c:valAx>
        <c:axId val="128366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6124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2D67-4ED3-420E-89E7-BE422E82B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B66E-976B-4388-9D09-AFEA06CAB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1D81-1FF5-45F4-82B3-6970622E0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1788-A87E-4C75-A98A-80241ED0C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6CBC-3BF5-4DF1-A40A-31B109B6D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5BC9-CBB5-49B0-B0DD-8788B7C59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3B0A-28CD-49AC-80F3-757CBDBA1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28B8-5F33-4B83-9CC0-FD5C0103C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FC06-EF86-4F6B-B513-1C6FCED8A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E551-3F0F-46EC-856F-8CFB85531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F683-2870-4CFE-8255-5587CC1F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5A32-075A-44A2-A374-7996B4E3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9D77C6-78FA-4AA7-A36A-326D8E86DC0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