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71979"/>
        <c:axId val="38135172"/>
      </c:barChart>
      <c:catAx>
        <c:axId val="31471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5172"/>
        <c:crosses val="autoZero"/>
        <c:auto val="1"/>
        <c:lblAlgn val="ctr"/>
        <c:lblOffset val="100"/>
        <c:noMultiLvlLbl val="0"/>
      </c:catAx>
      <c:valAx>
        <c:axId val="38135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71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002-7B74-4C0D-989B-75CB956D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433-D533-4109-8698-0CDD5ED9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E5C-79E0-420E-A356-7973D6DF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54B-2FDC-4F0B-A1BF-6DA07EB9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A05-11C0-4981-8429-A80D2A14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C24-6471-40AA-8D8F-8FC38070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99A-3B12-4FDF-A743-CFCDF546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E66-93AD-41BD-BF15-A15E384B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B10-42CD-420F-8381-60228FE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086-7D7E-4376-9B57-DFD215A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6C2-6FA9-49C4-8232-BC53F991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7B1-B6D5-4037-B56A-E826098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96796-234D-45B2-B3F7-C02F47504F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