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40053"/>
        <c:axId val="46631855"/>
      </c:barChart>
      <c:catAx>
        <c:axId val="41640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31855"/>
        <c:crosses val="autoZero"/>
        <c:auto val="1"/>
        <c:lblAlgn val="ctr"/>
        <c:lblOffset val="100"/>
        <c:noMultiLvlLbl val="0"/>
      </c:catAx>
      <c:valAx>
        <c:axId val="46631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40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EB0-3282-4F53-99C2-AFF6961D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AB7-141C-4A64-94E0-DB9187E4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AE1-2EFF-4E19-9895-72D1D3C9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C64-FE74-4AEC-8BEB-B03FF569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873-12AD-4B66-81C2-49B8986A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2A4-DE62-4ACE-9B99-DEB84B1F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1BB-CAEA-46E6-BDB3-B1A89F27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6E5-02C7-45DD-A073-DFB455C6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121-5DF2-4088-AD88-DA6BD66E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FEB-0B13-456F-9406-ABA5F9F8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934-36D2-4311-9D72-AF0FEAB5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297-A2F4-471B-9DC8-4902C2CC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1AEF4-150E-492E-B3F3-19CB495BDA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